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449-9FDD-419F-AB6B-55BE7D1BB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59A-E82A-409C-BD2E-F4972F35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3CB-3CCB-4DC0-B539-9DFB86EF2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B82D-DEAE-447E-BAB8-7D237643E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252C-D954-4FC6-AA98-846591B8CF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B158E-65EB-4A62-902C-D145F44D25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64625-1619-45B3-B7EA-6C50EE7DFF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10BBB-FD0E-426C-BC72-59715E16B0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B8B39-67D6-40F4-8319-829EBBAF4B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424FA-D6FA-485C-8698-C40C854F8D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DE6EA-6F28-428A-BC59-B66F4DD8AA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E7BB2-FA92-4D2F-91D0-FA23B713C9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18D94-FD48-4CA6-8856-0250E64F4C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6A7E5-4C74-4B43-AB8D-47FAFA8F18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C3B5-A3FF-4AA8-9D8A-B0D50F8CF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31D2-6D1A-4A87-A0E6-9A3F94D4E88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C5DC-4ACA-4F15-97F0-1A8FA91F81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810F-DFED-4D87-9098-259F7CC306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D5D8-81BB-4F13-A658-DDD8AFE2B5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79E6-FC43-47CA-B909-06EE196C37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2057-76B9-46DF-9E97-4EB430D9DB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2F7A-D857-41C4-98A7-8E46573141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79E2-CE7A-4FE5-9038-7AF9479819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1FD9-ED5C-4E28-9413-62BC76BDC7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F1CA-32AC-4705-9CEC-C7A487CD83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74E7-E11D-4C20-A315-67A4A1952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23DC-897A-4904-A109-2FB889F7C0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89C5-BDB5-4AA5-88A9-35D12D5EC6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D03EBA-016F-43F5-A1EB-3F3881E10A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0B680-350C-45E6-88A9-A002A1F721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B3F47-67B2-4A4A-A7F3-5B0D5A4EBD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1EDC7-D596-4141-AE72-D79D79C9B4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B7988-23F5-42CF-8D17-0BB072E7F0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1F2F93-F375-4A8B-9E2A-AB16C93066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E1134-B7CE-4F3F-A502-2464F781B5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32B18-E919-4E4D-910D-DA19FC5470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64CFDF-8A37-4B47-BF4A-E747E6BC8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05D36-234E-4D4A-8A3A-E1E16A1C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9DD26-4C3C-4AD7-B8D2-B7C46ABF1E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F7FC1-F9C0-4A0C-95F4-3BC069CD3D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4AA67-F4BD-48AB-AD21-23C7C791ED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29C39-E177-4C46-88EA-D05F99C303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C264F-78C7-4AF8-BFA9-6BAA0FCC60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022AA-CC25-486C-965F-3162D57BD9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C166B-86AE-47FE-990D-EE31D9F6991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AC09F-066A-4271-BB57-B69B7D5D2E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82A6B-2D56-45F7-B4CA-8B74275126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29284-4EFA-4A43-ADC0-F48D67F899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0B02B-46DC-46B3-B20B-2565EC95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35EE6-B3B5-4427-A494-0BB5328445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0FB54-C069-4144-BD13-21E16E9C59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F4B59-BE87-4724-9EA3-1467D4E91B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A3D92-FBC9-49EF-9134-8C68740DA2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C6602-EA0A-4303-8C57-8E5C9BAFE7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88AC-F21E-413D-8B8D-32FE10F2E34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C02B-58FA-4634-97E7-133CD5765C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27FA-3AFC-4E2F-8B73-EF351F1D9C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DBCD-07B2-490D-A234-174AC83A0E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58E24-B39E-44FD-9206-59E4835FCD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0851D-57FA-448A-81FC-60D8C35D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6629-7E18-48FA-8548-002821FA50E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8B433-86BA-4706-B0C6-4D5E475AA0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C5DB2-E1EA-4678-B472-0706C6A408A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33E7-5108-4688-ACA0-18B7422DDC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69FA-75B4-45D5-A3BD-F7B24008B7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A88D-C3D5-4216-A3E2-F9780745B10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BC00-EFA0-4628-8BFB-042C2DB7F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0CFB-0ACE-4970-8ABB-70E892B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F747A-D199-4B95-B730-75DC9C7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D3A3-2A3E-4FCC-BD74-ECAB7D9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D95DF-2AB4-4969-9797-5537DBC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4A5A-34EC-4A31-A5CD-335C970DE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5AE0-D53D-457D-949C-D9B2CA62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D143-C044-4AC4-8433-F4799E8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EB26-7B6E-430C-9280-25D60FF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71236-FF95-40CA-A053-C2A7ED43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B7F59-7783-4FD0-B259-5CCD706A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7E140-FFC7-4911-9BB4-1FF95CE25E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54EB9-7165-46A8-869E-6B2574B0C8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6D23-B192-4FEA-AA66-A5D4CEE6C0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F6D78-4FB1-4A60-A3B9-0AA9755AF0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3B18D-2DD4-4263-9526-21373C7A0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65B5-55B9-4E37-AB1A-6A198A7A9E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2DCE1-B629-45A0-8B49-953A49C0C0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E0A65-ADBE-4302-928F-94250FE822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5A068-3AE1-4595-AB15-171F10748E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EDBB8-7284-4309-AE2C-7FBEFE984B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9E52-805C-4AA9-BF72-AE0383CC28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846AC-06F8-4B6F-94F8-A57EA938DB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D753-4906-497F-98A4-1FA5FBC37E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3E49-D9D1-4343-8597-32DEDD0E01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C922-AA2C-44F6-8680-9ED0C8BE57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2CA-5994-49FC-AA66-1E2C745CC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0300-108A-46C8-B4F9-04275828A3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247C-9720-4F95-8A6D-74594A687B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786-D8D9-462B-9D23-99B3FC9AFA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FF13-4170-4652-B72A-4C1284B58B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A6D-4C2D-4B7D-B502-9DDE7BBFBB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353F-E088-495C-8EE5-E7FCB92898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3DC6-121F-4C05-B5A8-17DB916847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4F86-319B-4947-99C6-82E824BAC6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BFD-DA4D-4EB9-B1B2-D7A2F397FD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88E2-DADC-4C47-B0A4-DF6FBFF76A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A3455-0813-403D-B451-C791C1ED5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4405-3068-47AE-8005-7F1C822882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FF3FD-94C8-467B-9953-45C5AA26EB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53BAE-4256-4683-821F-92239C1A7D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368FD4-118C-4654-B72A-B15C3B3483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0D599-C01F-4A7B-B55F-F88B78AA6D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5D31C-D6C3-4FFF-AEF1-FAFEE902D8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9AB1B-4357-4ECA-9F59-F03B810B13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F4B9F-C9F3-4EF9-802B-3D3362741B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D08E9-8EF3-45E0-8214-9D2488894A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50886-E4C9-4497-97FB-50633AC28E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30142-3C57-47A3-A9AE-D1AB99F45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889A-8C51-4942-9C2A-292AFDCBC2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C7109-E619-4292-8860-82CDF621DF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5C178-57FD-4291-A5DC-360A3A1550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98F08-923B-40FB-AABC-B482C5C4A5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7E247-0F58-4494-A92F-FC75F3E3C6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977B5-D521-4F17-9E9B-728E7304A6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BB602-F0DF-4818-83D0-010B3B3FD5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CE476-1FCB-43D2-95AD-88AD9DAFBF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CD1EA-D811-40FF-BD4A-6C015E5E7A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14F7F-880E-49FE-B412-07B47279A4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C2214-2D27-483C-A697-CBD91F95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4EB9-E5E0-4788-92C8-3905C2AEFF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7371B-1A2C-4D7A-88E5-8DCB0E3A92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1D3DE-479C-4BF8-8D73-8C08409CA0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7B5F4-13BD-45D6-96BA-FE459EC6E9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3970-213F-4CDE-B1B7-AAE1CF9C78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2992-7521-43BF-A54F-BECB330A66A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A8B8-4028-42EA-AE84-4F67563962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B29F-2C63-48ED-9174-973A141303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3E03-0F04-4F78-8AC9-6294368FE7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6806-4C1C-4807-861C-C3563F57CA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1610-13FC-4839-A2FB-3866314E0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544-045B-4158-9F7D-4C4A56D695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897B-C6B3-4AEA-A39E-D8B347DC4E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3CCF-37D2-438F-A984-9FA973CBE3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8949-1C26-4BA8-8AFA-E63902889C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0512-A45D-45DB-910E-E7ADC93D70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36D7-BCE6-41EC-89DC-9A4C772F76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82D27-E992-4585-81C9-899C810D33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18FAE-3A04-49A1-9301-7FA2C66442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9A782-47F6-4D18-B82C-707CF84FB6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3246F-6C38-405A-B52B-21D2A7BFAE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1A297-CD73-4BC0-B342-739003C7B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B918-3CF2-407B-B85F-B6BDB3E6B7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3AE05-1E0E-410B-B087-1601D9CB88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98F50-6777-48E0-A611-6DE937CB2D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2A6F1-C675-4202-B07B-C9C0665B19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C8EAB-9038-4BCF-A19D-AE0F3E7B21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C345E-0FE8-4667-BB7B-B4FCCC3386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12BFE-1AEB-4B91-85BF-5D83BE45CB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B39D1-AF8D-4F31-AC4E-67056D6BA0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50CEE-0DD2-4D2C-B2E3-E4926BA730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257F1-65AC-4C30-BBBD-2D76C0B997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16129-4E7C-475A-98EA-C32946F16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737-553B-4031-8C40-A064C855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os_logo"/>
          <p:cNvPicPr/>
          <p:nvPr/>
        </p:nvPicPr>
        <p:blipFill>
          <a:blip r:embed="rId4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4A9-78AF-443E-91C6-BA69EF772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3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483-E140-4A73-BAA5-F6A15E45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4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EEB1-E5C8-4F01-9438-3732333B6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1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1DE-404C-4235-8F82-86E243240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151-4499-4B39-9D69-C4EC0BDEE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4C7-F7D9-4C23-97C7-DB03C5D1F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6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E21E-059B-415D-9FC2-62B6C22E3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7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10A-C458-43F0-AE1B-7241C656A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8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D0E-F5EC-4B03-9AEB-12076FA67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9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2EA9-AE67-414F-808D-9A783F577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0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07AC-1034-4D19-B66D-4A22F39CD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F25-C10A-49EE-86AC-213C2A2FF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capita.wustl.edu/CAPITA/CapitaReports/091116_GEOVI_ACPDemo/ACPortalDemoProject_Flash/ACPortalDemoProject_Flash.html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capita.wustl.edu/CAPITA/CapitaReports/091116_GEOVI_ACPDemo/ACPortalDemoProject_Flash/ACPortalDemoProject_Flash.html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40E-5CA1-4936-9FBC-4C704EB474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Status and Progress in an Atmospheric Composition Portal </a:t>
            </a:r>
            <a:br>
              <a:rPr sz="3200"/>
            </a:b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Initial Capability</a:t>
            </a:r>
            <a:endParaRPr b="1" lang="en-US" sz="28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0" y="52578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rcRect l="91134" t="88861" r="0" b="0"/>
          <a:stretch/>
        </p:blipFill>
        <p:spPr>
          <a:xfrm>
            <a:off x="7620120" y="563724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DLR-logo_grau"/>
          <p:cNvPicPr/>
          <p:nvPr/>
        </p:nvPicPr>
        <p:blipFill>
          <a:blip r:embed="rId2"/>
          <a:stretch/>
        </p:blipFill>
        <p:spPr>
          <a:xfrm>
            <a:off x="228600" y="5638680"/>
            <a:ext cx="1122480" cy="9223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8"/>
          <p:cNvSpPr/>
          <p:nvPr/>
        </p:nvSpPr>
        <p:spPr>
          <a:xfrm>
            <a:off x="3049560" y="3429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Portal Technica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F674-4836-41B6-AD28-CAAC88022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36600" y="21384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Mission Statem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ccess, tools, and contextual guidance to scientists and value-adding organizations in using remotely sensed atmospheric composition data, information, and ser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foster interoperability and application of atmospheric composition data, information and services worldw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unique requirements and common (shared) features of the ACC and GEOSS users to provide a value-added and complementary cap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partners in CEOS and the broader AC community in advancing the AC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Cap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7609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156060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15238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"/>
          <p:cNvPicPr/>
          <p:nvPr/>
        </p:nvPicPr>
        <p:blipFill>
          <a:blip r:embed="rId3"/>
          <a:stretch/>
        </p:blipFill>
        <p:spPr>
          <a:xfrm>
            <a:off x="1785960" y="5211720"/>
            <a:ext cx="749160" cy="603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9"/>
          <p:cNvSpPr/>
          <p:nvPr/>
        </p:nvSpPr>
        <p:spPr>
          <a:xfrm>
            <a:off x="164916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0"/>
          <p:cNvSpPr/>
          <p:nvPr/>
        </p:nvSpPr>
        <p:spPr>
          <a:xfrm>
            <a:off x="1818000" y="536400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1"/>
          <p:cNvSpPr/>
          <p:nvPr/>
        </p:nvSpPr>
        <p:spPr>
          <a:xfrm>
            <a:off x="1604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2"/>
          <p:cNvSpPr/>
          <p:nvPr/>
        </p:nvSpPr>
        <p:spPr>
          <a:xfrm>
            <a:off x="182880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3"/>
          <p:cNvSpPr/>
          <p:nvPr/>
        </p:nvSpPr>
        <p:spPr>
          <a:xfrm>
            <a:off x="1844640" y="6126120"/>
            <a:ext cx="5475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5909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0160" y="243828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7" descr=""/>
          <p:cNvPicPr/>
          <p:nvPr/>
        </p:nvPicPr>
        <p:blipFill>
          <a:blip r:embed="rId6"/>
          <a:srcRect l="0" t="11168" r="0" b="0"/>
          <a:stretch/>
        </p:blipFill>
        <p:spPr>
          <a:xfrm>
            <a:off x="3673440" y="4923000"/>
            <a:ext cx="685800" cy="49824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2"/>
          <p:cNvSpPr/>
          <p:nvPr/>
        </p:nvSpPr>
        <p:spPr>
          <a:xfrm>
            <a:off x="37976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6" descr=""/>
          <p:cNvPicPr/>
          <p:nvPr/>
        </p:nvPicPr>
        <p:blipFill>
          <a:blip r:embed="rId7"/>
          <a:stretch/>
        </p:blipFill>
        <p:spPr>
          <a:xfrm>
            <a:off x="57675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588" name="TextBox 71"/>
          <p:cNvSpPr/>
          <p:nvPr/>
        </p:nvSpPr>
        <p:spPr>
          <a:xfrm>
            <a:off x="57949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75"/>
          <p:cNvSpPr/>
          <p:nvPr/>
        </p:nvSpPr>
        <p:spPr>
          <a:xfrm>
            <a:off x="13716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le 76"/>
          <p:cNvSpPr/>
          <p:nvPr/>
        </p:nvSpPr>
        <p:spPr>
          <a:xfrm>
            <a:off x="33526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ounded Rectangle 77"/>
          <p:cNvSpPr/>
          <p:nvPr/>
        </p:nvSpPr>
        <p:spPr>
          <a:xfrm>
            <a:off x="52578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8"/>
          <p:cNvSpPr/>
          <p:nvPr/>
        </p:nvSpPr>
        <p:spPr>
          <a:xfrm>
            <a:off x="16916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79"/>
          <p:cNvSpPr/>
          <p:nvPr/>
        </p:nvSpPr>
        <p:spPr>
          <a:xfrm>
            <a:off x="358560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0"/>
          <p:cNvSpPr/>
          <p:nvPr/>
        </p:nvSpPr>
        <p:spPr>
          <a:xfrm>
            <a:off x="509616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hape 83"/>
          <p:cNvCxnSpPr>
            <a:stCxn id="592" idx="0"/>
          </p:cNvCxnSpPr>
          <p:nvPr/>
        </p:nvCxnSpPr>
        <p:spPr>
          <a:xfrm flipH="1" flipV="1" rot="5400000">
            <a:off x="342468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596" name="Shape 85"/>
          <p:cNvCxnSpPr>
            <a:stCxn id="592" idx="0"/>
          </p:cNvCxnSpPr>
          <p:nvPr/>
        </p:nvCxnSpPr>
        <p:spPr>
          <a:xfrm flipH="1" flipV="1" rot="5400000">
            <a:off x="347544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Shape 86"/>
          <p:cNvCxnSpPr>
            <a:stCxn id="593" idx="0"/>
          </p:cNvCxnSpPr>
          <p:nvPr/>
        </p:nvCxnSpPr>
        <p:spPr>
          <a:xfrm flipH="1" flipV="1" rot="5400000">
            <a:off x="440568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hape 88"/>
          <p:cNvCxnSpPr>
            <a:stCxn id="594" idx="0"/>
          </p:cNvCxnSpPr>
          <p:nvPr/>
        </p:nvCxnSpPr>
        <p:spPr>
          <a:xfrm flipV="1" rot="16200000">
            <a:off x="529416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116"/>
          <p:cNvCxnSpPr/>
          <p:nvPr/>
        </p:nvCxnSpPr>
        <p:spPr>
          <a:xfrm>
            <a:off x="37306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600" name="Rounded Rectangle 121"/>
          <p:cNvSpPr/>
          <p:nvPr/>
        </p:nvSpPr>
        <p:spPr>
          <a:xfrm>
            <a:off x="449568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Curved Connector 123"/>
          <p:cNvCxnSpPr>
            <a:stCxn id="600" idx="2"/>
          </p:cNvCxnSpPr>
          <p:nvPr/>
        </p:nvCxnSpPr>
        <p:spPr>
          <a:xfrm rot="5400000">
            <a:off x="5403240" y="1974600"/>
            <a:ext cx="229320" cy="699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Picture 47" descr=""/>
          <p:cNvPicPr/>
          <p:nvPr/>
        </p:nvPicPr>
        <p:blipFill>
          <a:blip r:embed="rId8"/>
          <a:srcRect l="11239" t="10006" r="14997" b="4025"/>
          <a:stretch/>
        </p:blipFill>
        <p:spPr>
          <a:xfrm>
            <a:off x="6041880" y="1608120"/>
            <a:ext cx="76212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3" name="TextBox 127"/>
          <p:cNvSpPr/>
          <p:nvPr/>
        </p:nvSpPr>
        <p:spPr>
          <a:xfrm>
            <a:off x="629892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27"/>
          <p:cNvSpPr/>
          <p:nvPr/>
        </p:nvSpPr>
        <p:spPr>
          <a:xfrm>
            <a:off x="4630680" y="1828800"/>
            <a:ext cx="1055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78"/>
          <p:cNvSpPr/>
          <p:nvPr/>
        </p:nvSpPr>
        <p:spPr>
          <a:xfrm>
            <a:off x="496116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27"/>
          <p:cNvSpPr/>
          <p:nvPr/>
        </p:nvSpPr>
        <p:spPr>
          <a:xfrm>
            <a:off x="5867280" y="3352680"/>
            <a:ext cx="955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Portal Site at 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37609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"/>
          <p:cNvPicPr/>
          <p:nvPr/>
        </p:nvPicPr>
        <p:blipFill>
          <a:blip r:embed="rId1"/>
          <a:stretch/>
        </p:blipFill>
        <p:spPr>
          <a:xfrm>
            <a:off x="156060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15238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3"/>
          <a:stretch/>
        </p:blipFill>
        <p:spPr>
          <a:xfrm>
            <a:off x="1785960" y="5211720"/>
            <a:ext cx="749160" cy="60336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9"/>
          <p:cNvSpPr/>
          <p:nvPr/>
        </p:nvSpPr>
        <p:spPr>
          <a:xfrm>
            <a:off x="164916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50"/>
          <p:cNvSpPr/>
          <p:nvPr/>
        </p:nvSpPr>
        <p:spPr>
          <a:xfrm>
            <a:off x="1818000" y="536400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1"/>
          <p:cNvSpPr/>
          <p:nvPr/>
        </p:nvSpPr>
        <p:spPr>
          <a:xfrm>
            <a:off x="1604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2"/>
          <p:cNvSpPr/>
          <p:nvPr/>
        </p:nvSpPr>
        <p:spPr>
          <a:xfrm>
            <a:off x="182880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3"/>
          <p:cNvSpPr/>
          <p:nvPr/>
        </p:nvSpPr>
        <p:spPr>
          <a:xfrm>
            <a:off x="1844640" y="6126120"/>
            <a:ext cx="5475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25909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2590920" y="5867280"/>
            <a:ext cx="27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0160" y="2438280"/>
            <a:ext cx="1656000" cy="133056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5"/>
          <p:cNvSpPr/>
          <p:nvPr/>
        </p:nvSpPr>
        <p:spPr>
          <a:xfrm>
            <a:off x="274320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PeND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7" descr=""/>
          <p:cNvPicPr/>
          <p:nvPr/>
        </p:nvPicPr>
        <p:blipFill>
          <a:blip r:embed="rId6"/>
          <a:stretch/>
        </p:blipFill>
        <p:spPr>
          <a:xfrm>
            <a:off x="3706920" y="5645160"/>
            <a:ext cx="742680" cy="536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7" descr=""/>
          <p:cNvPicPr/>
          <p:nvPr/>
        </p:nvPicPr>
        <p:blipFill>
          <a:blip r:embed="rId7"/>
          <a:srcRect l="0" t="11168" r="0" b="0"/>
          <a:stretch/>
        </p:blipFill>
        <p:spPr>
          <a:xfrm>
            <a:off x="367344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"/>
          <p:cNvPicPr/>
          <p:nvPr/>
        </p:nvPicPr>
        <p:blipFill>
          <a:blip r:embed="rId8"/>
          <a:stretch/>
        </p:blipFill>
        <p:spPr>
          <a:xfrm>
            <a:off x="39387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62"/>
          <p:cNvSpPr/>
          <p:nvPr/>
        </p:nvSpPr>
        <p:spPr>
          <a:xfrm>
            <a:off x="37976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3"/>
          <p:cNvSpPr/>
          <p:nvPr/>
        </p:nvSpPr>
        <p:spPr>
          <a:xfrm>
            <a:off x="39661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4"/>
          <p:cNvSpPr/>
          <p:nvPr/>
        </p:nvSpPr>
        <p:spPr>
          <a:xfrm>
            <a:off x="375336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5"/>
          <p:cNvSpPr/>
          <p:nvPr/>
        </p:nvSpPr>
        <p:spPr>
          <a:xfrm>
            <a:off x="3978360" y="6066000"/>
            <a:ext cx="5331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66"/>
          <p:cNvSpPr/>
          <p:nvPr/>
        </p:nvSpPr>
        <p:spPr>
          <a:xfrm>
            <a:off x="399240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7" descr=""/>
          <p:cNvPicPr/>
          <p:nvPr/>
        </p:nvPicPr>
        <p:blipFill>
          <a:blip r:embed="rId9"/>
          <a:stretch/>
        </p:blipFill>
        <p:spPr>
          <a:xfrm>
            <a:off x="5535720" y="5645160"/>
            <a:ext cx="742680" cy="536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7" descr=""/>
          <p:cNvPicPr/>
          <p:nvPr/>
        </p:nvPicPr>
        <p:blipFill>
          <a:blip r:embed="rId10"/>
          <a:srcRect l="0" t="11168" r="0" b="0"/>
          <a:stretch/>
        </p:blipFill>
        <p:spPr>
          <a:xfrm>
            <a:off x="550224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6" descr=""/>
          <p:cNvPicPr/>
          <p:nvPr/>
        </p:nvPicPr>
        <p:blipFill>
          <a:blip r:embed="rId11"/>
          <a:stretch/>
        </p:blipFill>
        <p:spPr>
          <a:xfrm>
            <a:off x="5767560" y="5261040"/>
            <a:ext cx="742680" cy="5968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70"/>
          <p:cNvSpPr/>
          <p:nvPr/>
        </p:nvSpPr>
        <p:spPr>
          <a:xfrm>
            <a:off x="562644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71"/>
          <p:cNvSpPr/>
          <p:nvPr/>
        </p:nvSpPr>
        <p:spPr>
          <a:xfrm>
            <a:off x="579492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2"/>
          <p:cNvSpPr/>
          <p:nvPr/>
        </p:nvSpPr>
        <p:spPr>
          <a:xfrm>
            <a:off x="558216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3"/>
          <p:cNvSpPr/>
          <p:nvPr/>
        </p:nvSpPr>
        <p:spPr>
          <a:xfrm>
            <a:off x="5807160" y="6066000"/>
            <a:ext cx="5331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582120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ounded Rectangle 75"/>
          <p:cNvSpPr/>
          <p:nvPr/>
        </p:nvSpPr>
        <p:spPr>
          <a:xfrm>
            <a:off x="13716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76"/>
          <p:cNvSpPr/>
          <p:nvPr/>
        </p:nvSpPr>
        <p:spPr>
          <a:xfrm>
            <a:off x="33526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ounded Rectangle 77"/>
          <p:cNvSpPr/>
          <p:nvPr/>
        </p:nvSpPr>
        <p:spPr>
          <a:xfrm>
            <a:off x="52578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16916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358560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509616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Shape 83"/>
          <p:cNvCxnSpPr>
            <a:stCxn id="640" idx="0"/>
          </p:cNvCxnSpPr>
          <p:nvPr/>
        </p:nvCxnSpPr>
        <p:spPr>
          <a:xfrm flipH="1" flipV="1" rot="5400000">
            <a:off x="342468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644" name="Shape 85"/>
          <p:cNvCxnSpPr>
            <a:stCxn id="640" idx="0"/>
          </p:cNvCxnSpPr>
          <p:nvPr/>
        </p:nvCxnSpPr>
        <p:spPr>
          <a:xfrm flipH="1" flipV="1" rot="5400000">
            <a:off x="347544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Shape 86"/>
          <p:cNvCxnSpPr>
            <a:stCxn id="641" idx="0"/>
          </p:cNvCxnSpPr>
          <p:nvPr/>
        </p:nvCxnSpPr>
        <p:spPr>
          <a:xfrm flipH="1" flipV="1" rot="5400000">
            <a:off x="440568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Shape 88"/>
          <p:cNvCxnSpPr>
            <a:stCxn id="642" idx="0"/>
          </p:cNvCxnSpPr>
          <p:nvPr/>
        </p:nvCxnSpPr>
        <p:spPr>
          <a:xfrm flipV="1" rot="16200000">
            <a:off x="529416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7" name="Picture 46" descr=""/>
          <p:cNvPicPr/>
          <p:nvPr/>
        </p:nvPicPr>
        <p:blipFill>
          <a:blip r:embed="rId12"/>
          <a:stretch/>
        </p:blipFill>
        <p:spPr>
          <a:xfrm>
            <a:off x="1825560" y="2438280"/>
            <a:ext cx="1295640" cy="1278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07"/>
          <p:cNvSpPr/>
          <p:nvPr/>
        </p:nvSpPr>
        <p:spPr>
          <a:xfrm>
            <a:off x="1996920" y="2206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ight Arrow 108"/>
          <p:cNvSpPr/>
          <p:nvPr/>
        </p:nvSpPr>
        <p:spPr>
          <a:xfrm>
            <a:off x="3349800" y="274320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ight Arrow 109"/>
          <p:cNvSpPr/>
          <p:nvPr/>
        </p:nvSpPr>
        <p:spPr>
          <a:xfrm rot="10800000">
            <a:off x="3273120" y="30477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3"/>
          <a:stretch/>
        </p:blipFill>
        <p:spPr>
          <a:xfrm>
            <a:off x="3044880" y="1523880"/>
            <a:ext cx="614160" cy="38124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12"/>
          <p:cNvSpPr/>
          <p:nvPr/>
        </p:nvSpPr>
        <p:spPr>
          <a:xfrm>
            <a:off x="2438640" y="13716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traight Arrow Connector 114"/>
          <p:cNvCxnSpPr/>
          <p:nvPr/>
        </p:nvCxnSpPr>
        <p:spPr>
          <a:xfrm flipH="1">
            <a:off x="3044520" y="1980000"/>
            <a:ext cx="38160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Straight Arrow Connector 116"/>
          <p:cNvCxnSpPr/>
          <p:nvPr/>
        </p:nvCxnSpPr>
        <p:spPr>
          <a:xfrm>
            <a:off x="37306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55" name="Straight Arrow Connector 118"/>
          <p:cNvCxnSpPr/>
          <p:nvPr/>
        </p:nvCxnSpPr>
        <p:spPr>
          <a:xfrm>
            <a:off x="3584520" y="1990800"/>
            <a:ext cx="38160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Rounded Rectangle 121"/>
          <p:cNvSpPr/>
          <p:nvPr/>
        </p:nvSpPr>
        <p:spPr>
          <a:xfrm>
            <a:off x="449568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Curved Connector 123"/>
          <p:cNvCxnSpPr>
            <a:stCxn id="656" idx="2"/>
          </p:cNvCxnSpPr>
          <p:nvPr/>
        </p:nvCxnSpPr>
        <p:spPr>
          <a:xfrm rot="5400000">
            <a:off x="5403240" y="1974600"/>
            <a:ext cx="229320" cy="699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8" name="Picture 47" descr=""/>
          <p:cNvPicPr/>
          <p:nvPr/>
        </p:nvPicPr>
        <p:blipFill>
          <a:blip r:embed="rId14"/>
          <a:srcRect l="11239" t="10006" r="14997" b="4025"/>
          <a:stretch/>
        </p:blipFill>
        <p:spPr>
          <a:xfrm>
            <a:off x="6041880" y="1608120"/>
            <a:ext cx="76212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9" name="TextBox 127"/>
          <p:cNvSpPr/>
          <p:nvPr/>
        </p:nvSpPr>
        <p:spPr>
          <a:xfrm>
            <a:off x="629892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27"/>
          <p:cNvSpPr/>
          <p:nvPr/>
        </p:nvSpPr>
        <p:spPr>
          <a:xfrm>
            <a:off x="4630680" y="1828800"/>
            <a:ext cx="1055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78"/>
          <p:cNvSpPr/>
          <p:nvPr/>
        </p:nvSpPr>
        <p:spPr>
          <a:xfrm>
            <a:off x="496116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FED6-2EE9-4E14-831B-B15F5ECFAA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 Technical Team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290120" y="1905120"/>
            <a:ext cx="469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nk Lind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ren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nie Hilsenr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g Leptou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 Ly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ll T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es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fan Falke (Northrop Grum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dolf Husar (Washington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 Robinson (Washington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599400" y="1919160"/>
            <a:ext cx="2871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ate Hilden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thrin Höpp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o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g Gouss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éverine Bernon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8:52:31Z</dcterms:created>
  <dc:creator>Stefan Falke</dc:creator>
  <dc:description/>
  <dc:language>en-US</dc:language>
  <cp:lastModifiedBy>Stefan Falke</cp:lastModifiedBy>
  <dcterms:modified xsi:type="dcterms:W3CDTF">2010-01-06T18:54:42Z</dcterms:modified>
  <cp:revision>2</cp:revision>
  <dc:subject/>
  <dc:title>Slide 1</dc:title>
</cp:coreProperties>
</file>